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988-80AD-4A8F-A32F-2F12A9B6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C4A9-3212-40B2-9DF3-B5413C0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D2C42C-DFDE-401B-BC86-58AFF3AC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1E2996-89AF-43E8-A5EF-B4F2E8FD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4200CC-B58B-4283-9DC5-6A4A5D0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788D60-5A8C-4350-BAA2-A275808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FB10F7-50A3-486D-8A36-C322611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01D18-D197-48AA-9A07-7EC840E4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C34B9B-EF1F-41A1-9E75-1260D567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5F2CA7-B1BF-4358-82B0-9A2E897B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9BAF7-442B-41E5-B1A4-F99A5ED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C8F-A13B-4974-8AE8-FAF6F884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8CF-4AB5-41AB-87A3-BB9F78DD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35149-7A0B-4775-BAA6-026864B8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4230B-B956-4F65-A700-4512675B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4A59A-DF0C-4CB5-BAC5-D4B5874F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43B3-2E1D-4E2E-8B03-03A498CA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F473C-2176-426F-8892-069336D8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C7E4B-64AE-45F9-9691-ADF18457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F06F-A541-4B50-BF9B-5A982922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0A2-669D-493D-9C4F-14D3F81C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261F4-3931-4245-8B22-A0332238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B8BFE-13B7-4849-BB7F-D5175253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B1FA7-6BA9-4BA7-9CDA-D34C4C80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70DC7-18B8-46BD-A094-19FF822D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160E-FF70-458A-88F2-478F453F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9F19-E6E3-418B-B588-E12D2BDE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F86CD-B39C-4911-AE7E-28254E8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1205-F2EC-4EC4-A237-A9F7BAD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E69D-5B88-4CF8-9DDD-0BB0FDDD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A14F-7DD5-4982-AD60-0424E4D5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3C7-85C7-4314-A55C-44FBFF0C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DE56-3BC9-4D57-9897-0976F109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0443-5CF8-40D9-9EE8-CE8F9AA2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7FB87-80FF-4A67-8D9B-D432FE12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EB5F-5A8C-4582-A4D5-66EB042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0190-E802-41C0-88F4-BF5494AD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03111-6CD9-49A7-BDAE-E22BAAF4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EA51-5028-4722-AA61-0743A5FD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B8AD1-4F57-4CEC-A391-E5291197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7EDE5-15F5-4999-808F-4A612707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CD426-5546-46C4-AE3D-90A3FAD8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307-BA20-44C1-BAED-1048AAC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3F29B-305D-4223-9D67-1042A14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2DD67-BE17-4E06-B450-04EF8021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73778-B0C0-43AD-8345-9C8AF2F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196282-887A-487F-BEB6-DCD4700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A2DFD-366B-41EB-BEF0-B00E9192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FB570E-FE5C-465D-92CC-5767FB6E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49D18-0A49-484B-8AF1-E0671AC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C4E78-5A50-4A01-94E1-C677B29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A02D3-2800-488C-B6F2-09751E6E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C17F-BFEF-4899-BB6E-751088E5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C76-1B2C-4EFE-9B6E-32B636B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F1A7-817E-44E5-AC96-4C8401DA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42F3-0AA8-47E4-8C12-86705441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CCDA-9ACB-4A1C-A25D-F363945B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D2FB5-ED9E-4029-9D3F-61EE4BAF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ADCB-A7BF-47F0-8074-6B33213A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AB21-F365-4EA2-A583-42E6E1F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E1FF-A7C8-467E-939C-3993BD9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B9E2-55C6-4438-B6FA-513B495F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9F44-240A-4B31-8B7A-111C8CBB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9451B-796F-4F5D-8BD9-6EA633D9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354-C1C2-4ACC-9041-12293937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4C16A-7D09-465C-B056-1ADD55F2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8643-93E8-4E99-8788-79777DBE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02626-4BF8-47F0-8D4D-CAD4ECF2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3376C-4F8C-4C81-BE1D-37D4FF9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5BD6-4990-4AE6-B8CD-8C140A95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11D7B-0C65-436A-9511-CF2BCD70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B614-712C-47B5-95BE-2FBFF12A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62869-CE20-4975-9B1F-E1B549B8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D296-C0D2-4894-BD4E-67587B6C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6C253-145D-4548-AA04-E160CF56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E70-2FF2-4014-B143-A149323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764DF-F664-4CE2-823C-55B0359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DD10A-BE06-4CE2-8D13-FCE582AE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20A3C-3FF5-425C-A4EE-E91169BC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B804-A90D-4C53-A098-69951040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A963A-69BF-48C7-8B57-0C3F9BA8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40FA2-161B-4160-86FE-57993BB0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A784D-6AF2-4049-A926-50EC6907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72143-0B73-425C-9398-9CD752E2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75360-4DEC-4314-AB80-AE90B1B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CCF35-BDF6-4F1B-BB64-D64149DF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945E-BE54-4131-BB8F-D89BD77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94D8F-45E8-4F6A-A206-9B5AF94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1DE80-E9E4-4F1D-91D0-3714540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518B0-1C70-4062-8892-160367E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60EC-B383-49F6-901D-91B505C8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543A6-1F22-4355-A514-7F6C906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54C6E-0BDB-4215-A723-3C3EE8DD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C46A5B-F4C8-4269-8EBB-9299356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D0E8BE-4FBA-4B2D-BF37-7916748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9D57D-881A-43C2-BCA3-0C9E42DB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E8992-882D-4326-A335-F4C9271C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DBA-5F2D-424F-B83A-FE3BE84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B2F432-5F09-4ACD-BC77-8E57D919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D6A9C9-7A74-4BA8-A1F0-83B6EBF6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7837FD-0504-43BF-858C-5278F471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26BD1-126E-436F-B03A-09D5659F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FF3871-0333-48AF-AE4C-E8D5EC7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4CDA8-700D-4B8A-8A04-5AD3528A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14327-26D3-4BD8-82CA-249E9906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7A5F86-88F9-426B-BAD5-87819784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1698EA-EE45-4144-BEA0-4EBB3C8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7B82B-3C77-4429-9F29-FBAB81E5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09F-7797-4DC7-8BC9-B22E77DED4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6AFA-6C7C-43C1-A86B-E433C13FB9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E1A8-64B6-4B45-819A-EB821648B7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3D2E-D496-4BDA-82D6-10AC41D61C4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7C55-F41B-4F9B-B984-5CA44E579C8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D595-9CD9-42D3-BC9D-44CF723B345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0B4D-C8CD-46BB-9143-BE16EB0A48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540-7642-47AB-B102-1977342729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233A-3656-4FBF-A1AE-F7DFE54626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954920" cy="1944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tractor"/>
          <p:cNvPicPr/>
          <p:nvPr/>
        </p:nvPicPr>
        <p:blipFill>
          <a:blip r:embed="rId2"/>
          <a:stretch/>
        </p:blipFill>
        <p:spPr>
          <a:xfrm>
            <a:off x="4952880" y="3352680"/>
            <a:ext cx="3505320" cy="2743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ranching4"/>
          <p:cNvPicPr/>
          <p:nvPr/>
        </p:nvPicPr>
        <p:blipFill>
          <a:blip r:embed="rId3"/>
          <a:stretch/>
        </p:blipFill>
        <p:spPr>
          <a:xfrm>
            <a:off x="685800" y="3352680"/>
            <a:ext cx="357192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farming is done to provide food for one’s family, then it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Subsistence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rm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farming is done to sell in large quantities, then it is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 Commercial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arm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78920" cy="13096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Mostly in the LDC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Family or Vill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imited Technolog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ots of manual labo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Picture 5" descr="013006_%20b783-760459"/>
          <p:cNvPicPr/>
          <p:nvPr/>
        </p:nvPicPr>
        <p:blipFill>
          <a:blip r:embed="rId2"/>
          <a:stretch/>
        </p:blipFill>
        <p:spPr>
          <a:xfrm>
            <a:off x="4191120" y="2209680"/>
            <a:ext cx="2433600" cy="266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page2_blog_entry204_7"/>
          <p:cNvPicPr/>
          <p:nvPr/>
        </p:nvPicPr>
        <p:blipFill>
          <a:blip r:embed="rId3"/>
          <a:stretch/>
        </p:blipFill>
        <p:spPr>
          <a:xfrm>
            <a:off x="5943600" y="4343400"/>
            <a:ext cx="2590920" cy="2009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9" descr="jude's%20goat"/>
          <p:cNvPicPr/>
          <p:nvPr/>
        </p:nvPicPr>
        <p:blipFill>
          <a:blip r:embed="rId4"/>
          <a:stretch/>
        </p:blipFill>
        <p:spPr>
          <a:xfrm>
            <a:off x="6019920" y="83808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Mostly MDC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Corporate employe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Family Far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Modern technolog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machines, irrigation systems, chemical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5" descr="tbl_s18News%5CImage165%5C3581%5Clores_module_express_625"/>
          <p:cNvPicPr/>
          <p:nvPr/>
        </p:nvPicPr>
        <p:blipFill>
          <a:blip r:embed="rId2"/>
          <a:stretch/>
        </p:blipFill>
        <p:spPr>
          <a:xfrm>
            <a:off x="5257800" y="1295280"/>
            <a:ext cx="3351240" cy="2229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igginsubdrip"/>
          <p:cNvPicPr/>
          <p:nvPr/>
        </p:nvPicPr>
        <p:blipFill>
          <a:blip r:embed="rId3"/>
          <a:stretch/>
        </p:blipFill>
        <p:spPr>
          <a:xfrm>
            <a:off x="6324480" y="3200400"/>
            <a:ext cx="2449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853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er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Mostly LDC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o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Owned by wealthy corpor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Imported worke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Technologies vary (limited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- Low pay, sometimes unsaf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5" descr="3374815"/>
          <p:cNvPicPr/>
          <p:nvPr/>
        </p:nvPicPr>
        <p:blipFill>
          <a:blip r:embed="rId2"/>
          <a:stretch/>
        </p:blipFill>
        <p:spPr>
          <a:xfrm>
            <a:off x="6172200" y="1295280"/>
            <a:ext cx="2241720" cy="25146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tc_04_img1020"/>
          <p:cNvPicPr/>
          <p:nvPr/>
        </p:nvPicPr>
        <p:blipFill>
          <a:blip r:embed="rId3"/>
          <a:stretch/>
        </p:blipFill>
        <p:spPr>
          <a:xfrm>
            <a:off x="5638680" y="4191120"/>
            <a:ext cx="3029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48840" cy="1158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INTENSIVE or EXTENSIVE?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Compare the factors below for the same amount 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of land…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of LABOR involve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of CAPITAL require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Amount produced=the YIELD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rge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abo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arge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Money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ig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Yield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:  Rice, Corn, Grains, Dairy, Orchards, Beef/Chicken/Pork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Labor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amoun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Mone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ow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Rockwell"/>
              </a:rPr>
              <a:t>Yields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amples:  Fishing, Nomadic Herding, Shifting Agricult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3:25:03Z</dcterms:created>
  <dc:creator>hberndt</dc:creator>
  <dc:description/>
  <dc:language>en-US</dc:language>
  <cp:lastModifiedBy>hberndt</cp:lastModifiedBy>
  <dcterms:modified xsi:type="dcterms:W3CDTF">2010-04-28T12:31:19Z</dcterms:modified>
  <cp:revision>6</cp:revision>
  <dc:subject/>
  <dc:title>Types of Agriculture</dc:title>
</cp:coreProperties>
</file>